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8CD-FEC6-4111-816D-6F52BD14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571-CB91-40F0-A167-2C09D32D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837-0391-4B62-8EBD-25F30C7B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21F-35AB-42DE-94CF-CE599E47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FD09-15C8-437F-9ACD-1AA618A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F3F-83A9-4BF3-97F6-786821B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6CC-CB05-426A-94BF-1C2E11F6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12B6-9B1E-4FC8-BC34-4DFFBA0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B68-5773-4660-B634-983B37F5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45F-0669-4410-A2B3-C6536955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A1CE-15E2-43F4-8F95-1BF3621C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E0A-9594-49EF-9515-83F23FF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252-456E-4264-8088-71514EE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88BC-6600-4D19-B904-04C7F16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38C-3527-4735-8C8F-856EBA75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796E-2C9C-4EAC-8898-3535DE9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010D-DB74-455D-A73C-DB324AFA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4EF-91FF-4F77-A3D5-CD556D2D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78B-A567-4D54-BF95-77DEF317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0D9-417B-450C-BCAD-D7EFBA1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2C6-9017-46AD-82CE-F7DEFD6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220-7E32-487E-803F-B97A2C9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018-C838-4A02-A3EA-CC8CDAA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D83-F428-4E69-BB1D-368E99A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7CA6-D33E-4877-AF0C-86C26E5C1A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A9F-C238-464D-A13D-6A669C81B8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неклассное занятие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Герои нашего времени, или с кого писать свою жизнь»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Классный руководитель 5 класса МБОУ СОШ № 6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т. Новоивановской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Мартыненко Г.Н. 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борона Кавк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  Кольва Иван Сергее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расенко Иван Петро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вальчук Надежда Владимиров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дий Иван Сергее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гадий Иван Павло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дченко Екатерина Прокопьев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локреницкий Николай Степано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амарчук Михаил Иванович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Изображение 006"/>
          <p:cNvPicPr/>
          <p:nvPr/>
        </p:nvPicPr>
        <p:blipFill>
          <a:blip r:embed="rId1"/>
          <a:srcRect l="0" t="0" r="0" b="61636"/>
          <a:stretch/>
        </p:blipFill>
        <p:spPr>
          <a:xfrm>
            <a:off x="3959280" y="4653000"/>
            <a:ext cx="51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орона Кавк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альчук Надежда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SAM_0216"/>
          <p:cNvPicPr/>
          <p:nvPr/>
        </p:nvPicPr>
        <p:blipFill>
          <a:blip r:embed="rId1"/>
          <a:stretch/>
        </p:blipFill>
        <p:spPr>
          <a:xfrm>
            <a:off x="900000" y="2421000"/>
            <a:ext cx="7056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орона Кавк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дий Иван Сергее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гадий Иван Павло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дченко Екатерина Прокопьев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креницкий Николай Степанови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амарчук Михаил Иванович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J:\фото ВОВ\битва за кавказ.jpg"/>
          <p:cNvPicPr/>
          <p:nvPr/>
        </p:nvPicPr>
        <p:blipFill>
          <a:blip r:embed="rId1"/>
          <a:stretch/>
        </p:blipFill>
        <p:spPr>
          <a:xfrm>
            <a:off x="900000" y="1268280"/>
            <a:ext cx="74883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лая Зем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222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исенко Иван Васи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Васильевич Мих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илко Василий Кузьми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J:\фото ВОВ\малая земля.jpg"/>
          <p:cNvPicPr/>
          <p:nvPr/>
        </p:nvPicPr>
        <p:blipFill>
          <a:blip r:embed="rId1"/>
          <a:stretch/>
        </p:blipFill>
        <p:spPr>
          <a:xfrm>
            <a:off x="971640" y="2924280"/>
            <a:ext cx="62578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денонос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000" y="126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Новороссийском сражался и поги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аров Николай Родионович. Награждён Орденом Отечественной войны первой степени ( посмертн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J:\фото ВОВ\Малая земля.Прорыв Голубой линии.jpg"/>
          <p:cNvPicPr/>
          <p:nvPr/>
        </p:nvPicPr>
        <p:blipFill>
          <a:blip r:embed="rId1"/>
          <a:stretch/>
        </p:blipFill>
        <p:spPr>
          <a:xfrm>
            <a:off x="1332000" y="342900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 – Европы, прошагали полземли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и станичники имеют нагр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« За освобождение Варшавы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За освобождение Праги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За взятие Будапешта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За взятие Вены»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За взятие Берл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Берлин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2" descr="J:\фото ВОВ\взятие берлина1.jpg"/>
          <p:cNvPicPr/>
          <p:nvPr/>
        </p:nvPicPr>
        <p:blipFill>
          <a:blip r:embed="rId1"/>
          <a:stretch/>
        </p:blipFill>
        <p:spPr>
          <a:xfrm>
            <a:off x="1963800" y="1905120"/>
            <a:ext cx="5756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чная память героя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20200" y="126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е 500 станичников сражались на   фронтах Великой Отечеств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6 не вернули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F:\Изображение 098.jpg"/>
          <p:cNvPicPr/>
          <p:nvPr/>
        </p:nvPicPr>
        <p:blipFill>
          <a:blip r:embed="rId1"/>
          <a:stretch/>
        </p:blipFill>
        <p:spPr>
          <a:xfrm>
            <a:off x="1403280" y="2924280"/>
            <a:ext cx="597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Имеем ли мы право предавать забвению добытое кровью? Нет, не имеем. Надеемся ли мы, что добытое кровью сослужит ещё службу людям будущего? Надеемся.» ( А. Блок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2" descr="J:\фото ВОВ\А.Блок.jpg"/>
          <p:cNvPicPr/>
          <p:nvPr/>
        </p:nvPicPr>
        <p:blipFill>
          <a:blip r:embed="rId1"/>
          <a:stretch/>
        </p:blipFill>
        <p:spPr>
          <a:xfrm>
            <a:off x="2124000" y="2060640"/>
            <a:ext cx="3600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 Всё, что мы защищали, и вам защищать. Всё, что мы завещали, и вам защищать».( Расул Гамзатов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2" descr="J:\фото ВОВ\Гамзатов.jpg"/>
          <p:cNvPicPr/>
          <p:nvPr/>
        </p:nvPicPr>
        <p:blipFill>
          <a:blip r:embed="rId1"/>
          <a:stretch/>
        </p:blipFill>
        <p:spPr>
          <a:xfrm>
            <a:off x="1403280" y="1700280"/>
            <a:ext cx="6121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набат звучал голос Левитана о начале Великой Отечественной вой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F:\фото ВОВ\Ю.Левитан.jpg"/>
          <p:cNvPicPr/>
          <p:nvPr/>
        </p:nvPicPr>
        <p:blipFill>
          <a:blip r:embed="rId1"/>
          <a:stretch/>
        </p:blipFill>
        <p:spPr>
          <a:xfrm>
            <a:off x="2700360" y="2421000"/>
            <a:ext cx="428616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spaces_ru_3741057643-spaces_ru.mp3" descr=""/>
          <p:cNvPicPr/>
          <p:nvPr/>
        </p:nvPicPr>
        <p:blipFill>
          <a:blip r:embed="rId2"/>
          <a:stretch/>
        </p:blipFill>
        <p:spPr>
          <a:xfrm>
            <a:off x="1763640" y="625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урок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41362729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327640"/>
          </a:xfrm>
          <a:prstGeom prst="rect">
            <a:avLst/>
          </a:prstGeom>
          <a:ln w="0">
            <a:noFill/>
          </a:ln>
        </p:spPr>
      </p:pic>
      <p:pic>
        <p:nvPicPr>
          <p:cNvPr id="157" name="20_denb_pobedi.mp3" descr=""/>
          <p:cNvPicPr/>
          <p:nvPr/>
        </p:nvPicPr>
        <p:blipFill>
          <a:blip r:embed="rId2"/>
          <a:stretch/>
        </p:blipFill>
        <p:spPr>
          <a:xfrm>
            <a:off x="15084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509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война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ачалась 21 июня 1941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лилась 1418 дней и ноч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унесла более 27 миллионов советских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нь Победы 9 мая 1945 го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F:\фото ВОВ\256294_rYfct3.jpg"/>
          <p:cNvPicPr/>
          <p:nvPr/>
        </p:nvPicPr>
        <p:blipFill>
          <a:blip r:embed="rId1"/>
          <a:stretch/>
        </p:blipFill>
        <p:spPr>
          <a:xfrm>
            <a:off x="6353280" y="3216240"/>
            <a:ext cx="2762280" cy="3686040"/>
          </a:xfrm>
          <a:prstGeom prst="rect">
            <a:avLst/>
          </a:prstGeom>
          <a:ln w="0">
            <a:noFill/>
          </a:ln>
        </p:spPr>
      </p:pic>
      <p:pic>
        <p:nvPicPr>
          <p:cNvPr id="107" name="01_svyashchennaya_voyna.mp3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75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88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мять о погибших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будет вечна!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F:\Изображение 086.jpg"/>
          <p:cNvPicPr/>
          <p:nvPr/>
        </p:nvPicPr>
        <p:blipFill>
          <a:blip r:embed="rId1"/>
          <a:stretch/>
        </p:blipFill>
        <p:spPr>
          <a:xfrm>
            <a:off x="-108000" y="1700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икто не забыт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ничто не забыт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аль « За доблестный труд в Вели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ечественной войне 1941 – 1945 гг.» - 16 МЛН.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подвиги в боях -13 млн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F:\фото ВОВ\1311454316_veterany-vov-34-foto-(www_votrube_ru)4.jpg"/>
          <p:cNvPicPr/>
          <p:nvPr/>
        </p:nvPicPr>
        <p:blipFill>
          <a:blip r:embed="rId1"/>
          <a:stretch/>
        </p:blipFill>
        <p:spPr>
          <a:xfrm>
            <a:off x="0" y="378936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F:\фото ВОВ\1311454316_veterany-vov-34-foto-(www_votrube_ru)17.jpg"/>
          <p:cNvPicPr/>
          <p:nvPr/>
        </p:nvPicPr>
        <p:blipFill>
          <a:blip r:embed="rId2"/>
          <a:stretch/>
        </p:blipFill>
        <p:spPr>
          <a:xfrm>
            <a:off x="4319640" y="3789360"/>
            <a:ext cx="4824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икто не забыт,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ничто не забыт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06320"/>
            <a:ext cx="85122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оев Советского Союза -11 501 человек! Из ни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х - 81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лорусов - 3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краинцев -20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онтовиков других национальностей - 9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и награждённых фронтовиков – представители более 100 национальностей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F:\фото ВОВ\1311454316_veterany-vov-34-foto-(www_votrube_ru)14.jpg"/>
          <p:cNvPicPr/>
          <p:nvPr/>
        </p:nvPicPr>
        <p:blipFill>
          <a:blip r:embed="rId1"/>
          <a:stretch/>
        </p:blipFill>
        <p:spPr>
          <a:xfrm>
            <a:off x="1619280" y="4335480"/>
            <a:ext cx="45417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таничники в годы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войны ( Битва под       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         Москвой)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ники в боях под Москв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Гапона Алексей Петрови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Барилко Иван Степанови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Белокреницкий Василий Степано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:\фото ВОВ\битва за Москву. Советские войска на марше.jpg"/>
          <p:cNvPicPr/>
          <p:nvPr/>
        </p:nvPicPr>
        <p:blipFill>
          <a:blip r:embed="rId1"/>
          <a:stretch/>
        </p:blipFill>
        <p:spPr>
          <a:xfrm>
            <a:off x="1979640" y="3573360"/>
            <a:ext cx="4762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аничники в годы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войны ( Ленинград )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ник сражений оборо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нинграда – Савин Никола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сильеви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айоне 7 человек, переживш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окаду Ленинграда ( по данным 2004 го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25600" y="2565360"/>
            <a:ext cx="5896080" cy="197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:\фото ВОВ\в блокадном Ленинграде.jpg"/>
          <p:cNvPicPr/>
          <p:nvPr/>
        </p:nvPicPr>
        <p:blipFill>
          <a:blip r:embed="rId2"/>
          <a:stretch/>
        </p:blipFill>
        <p:spPr>
          <a:xfrm>
            <a:off x="4211640" y="3740040"/>
            <a:ext cx="4762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алинградская би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вовало 114 куб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новопокровч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тераны – новоивановцы: Третьяков Алексей Дмитриеви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й Степан Луки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зилов Кузьма Фёдорович; Шинкаренко Кузьма Сергееви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нисенко Дмитрий Пантелее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J:\фото ВОВ\бой в Сталинграде осень 1942г.jpg"/>
          <p:cNvPicPr/>
          <p:nvPr/>
        </p:nvPicPr>
        <p:blipFill>
          <a:blip r:embed="rId1"/>
          <a:stretch/>
        </p:blipFill>
        <p:spPr>
          <a:xfrm>
            <a:off x="2319480" y="4149720"/>
            <a:ext cx="3816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32:58Z</dcterms:created>
  <dc:creator>Санёк</dc:creator>
  <dc:description/>
  <dc:language>en-US</dc:language>
  <cp:lastModifiedBy>юлия</cp:lastModifiedBy>
  <dcterms:modified xsi:type="dcterms:W3CDTF">2015-03-31T07:40:11Z</dcterms:modified>
  <cp:revision>62</cp:revision>
  <dc:subject/>
  <dc:title>Нестандартный урок</dc:title>
</cp:coreProperties>
</file>